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07158"/>
        <c:axId val="26162171"/>
      </c:barChart>
      <c:catAx>
        <c:axId val="33107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2171"/>
        <c:crosses val="autoZero"/>
        <c:auto val="1"/>
        <c:lblAlgn val="ctr"/>
        <c:lblOffset val="100"/>
        <c:noMultiLvlLbl val="0"/>
      </c:catAx>
      <c:valAx>
        <c:axId val="26162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07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2FC-8563-4E7D-B73B-6C155AF2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E9C-EBBD-4FCE-A24E-FE96DD3F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B4A-F11C-4FED-9D82-D288EE85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53D-DFFC-4B74-BE29-6894D309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D16-F5AB-4E25-842D-5E5513F4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B54-6338-4D05-82C3-40BB4A2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8B7-C08E-4940-9E20-766D35D0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CAE-E0FD-4D83-8705-CB103E16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C2D-DEFF-48DE-8FAD-A339943C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A69-CD1D-4D7F-AD79-222FA54A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217-9820-4CEF-ABAD-2C83F64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E24-D791-481D-870D-0CB9FF1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A90B5-59F0-43B2-812F-A4C86F396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