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47240"/>
        <c:axId val="55079137"/>
      </c:barChart>
      <c:catAx>
        <c:axId val="21847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79137"/>
        <c:crosses val="autoZero"/>
        <c:auto val="1"/>
        <c:lblAlgn val="ctr"/>
        <c:lblOffset val="100"/>
        <c:noMultiLvlLbl val="0"/>
      </c:catAx>
      <c:valAx>
        <c:axId val="55079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7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5A9-56BD-4EED-BEFE-735E230E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D1F-8CBF-419C-A461-E4BC9B9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655-B4C1-4F7C-9366-FA111E49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661-8045-4E61-93A0-629AFEBE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992-5B53-4B77-A93B-51852A6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A72-ACEF-453B-BC02-84C351B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936-9391-4500-9BA8-858335E1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42E-E257-49EC-AB60-1485FAF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EBA-7CC3-4B80-8B4B-48B512D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283-0679-4296-995D-41BD3F7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B3A-AF39-4DD4-91D3-3ECFCF7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293-1C45-46E1-B111-F5055E3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1633D-3F6F-4734-9587-BEB521CC7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