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51563"/>
        <c:axId val="45693578"/>
      </c:barChart>
      <c:catAx>
        <c:axId val="17351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93578"/>
        <c:crosses val="autoZero"/>
        <c:auto val="1"/>
        <c:lblAlgn val="ctr"/>
        <c:lblOffset val="100"/>
        <c:noMultiLvlLbl val="0"/>
      </c:catAx>
      <c:valAx>
        <c:axId val="45693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51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FFD-ED63-4633-A1D9-31760968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94C-8DFA-4576-94CF-7FD3A261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ACB-A938-4E46-A763-1FF60919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5C8-F63D-4E92-BB44-6ADDAF68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4B8-EA47-4CCD-8D95-78C5F241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759-430E-4DB6-8AFE-D4E42778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533-B243-463F-A089-BB698720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427-BF3B-49A0-95F9-80A77400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966-ED36-4F24-8A8C-EC6BF3F4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D92-EC57-4E89-A686-64D4EB5E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999-0D79-4F66-BBF1-E2E3A963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7CB9-3CCC-4E85-B216-E9C3C87E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4E2FF-FB0F-4914-BA6F-393959B0F8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