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28455"/>
        <c:axId val="5582479"/>
      </c:barChart>
      <c:catAx>
        <c:axId val="54428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479"/>
        <c:crosses val="autoZero"/>
        <c:auto val="1"/>
        <c:lblAlgn val="ctr"/>
        <c:lblOffset val="100"/>
        <c:noMultiLvlLbl val="0"/>
      </c:catAx>
      <c:valAx>
        <c:axId val="5582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28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962-704C-4E8D-8E9A-7559E90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10F-EB19-478F-B2D9-72FE19D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4C5-12C7-43F8-802C-9150AB0A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E10-6F20-4FFB-A531-DA9E6083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B1C-EBE2-4278-A766-B6DE573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33D8-7240-4DE2-BB36-722A4576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4B2-C7AB-41D0-A5CF-5F19F6BF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DFE7-10CC-4F96-BCCF-8A812FB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360-5C71-40BC-9D27-7CA6554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176-166C-4D36-91A0-E345CE2C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9FC-43ED-4489-84BA-B24B513A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026-F866-4F33-9863-8FE840F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2E47E-DD4D-47BE-AC46-13C7B6CDE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