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41783"/>
        <c:axId val="48245935"/>
      </c:barChart>
      <c:catAx>
        <c:axId val="33841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5935"/>
        <c:crosses val="autoZero"/>
        <c:auto val="1"/>
        <c:lblAlgn val="ctr"/>
        <c:lblOffset val="100"/>
        <c:noMultiLvlLbl val="0"/>
      </c:catAx>
      <c:valAx>
        <c:axId val="48245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41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6BC-FA80-4ACE-8887-E8B7459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8E5-E8BD-4CC0-96F2-8388BB6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172-C4C9-4122-9EEC-597FACB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711-4FC1-458A-8A1C-D5BA7A25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0B2-3BEC-48C5-9651-5CBFACD8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BFD-1A5D-473E-ACB8-0E6BF45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7CD-D7C1-4535-8747-3BE67062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96A-2A24-4707-B2CE-CE856E1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F1E-6983-4C6A-9ED6-95E881EF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23A-F9C0-4E9D-A154-1F411AD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426-6F95-481E-AE51-2F4045D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A0D-7D3B-445E-9744-B4E5CB0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9BBB8-C847-4A41-864E-F86BCC0A3B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