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384305"/>
        <c:axId val="98316951"/>
      </c:barChart>
      <c:catAx>
        <c:axId val="76384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16951"/>
        <c:crosses val="autoZero"/>
        <c:auto val="1"/>
        <c:lblAlgn val="ctr"/>
        <c:lblOffset val="100"/>
        <c:noMultiLvlLbl val="0"/>
      </c:catAx>
      <c:valAx>
        <c:axId val="98316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84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91A-A524-4254-A26D-36132FC0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BB5-637D-4F5F-88C5-34AAF4FC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430-C7EF-49F4-A05D-E78F1345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15E8-6F23-42CE-9CFA-60C7B952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8FC-BB32-423D-874A-1B9C8AFC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3D3-9A06-42DF-9AD2-7B54767E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22F-8EB0-46B7-AF56-4CCFCC7E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A97-4E8A-4DF3-8344-4E77A5E8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161-6985-46AA-87ED-6E18B928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DE4-0BA2-4A73-9C13-612C8A60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A18-30A7-4DF4-A769-85CF0562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6F5A-C333-4EF2-9503-53B8CC64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06D50-E5C1-4D4D-8D46-C86DA44CD1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