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78831"/>
        <c:axId val="95021559"/>
      </c:barChart>
      <c:catAx>
        <c:axId val="45378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21559"/>
        <c:crosses val="autoZero"/>
        <c:auto val="1"/>
        <c:lblAlgn val="ctr"/>
        <c:lblOffset val="100"/>
        <c:noMultiLvlLbl val="0"/>
      </c:catAx>
      <c:valAx>
        <c:axId val="95021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78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59D-E67B-4430-9EA6-3E21A418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9D6-8EE4-48F4-96B7-97755AA8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A50-2D13-467F-B487-5D4D92F0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324-F1CF-4C88-A4C8-B35C4EF3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D49-6B9B-4978-933A-CDCA28BA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A99-7584-4221-8462-DE2136B8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ABE-C606-41D8-B4A6-6D434D75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782-442D-4A55-B7D6-A2DE61A0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2B4-6D98-4F19-BB89-94FD5622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14E-FC2C-4874-90CE-ECFFB913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793-5000-452E-AC78-FA6CC65F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42D-E04A-4502-B8AB-87FB186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1DEEF-4D9F-4F06-AF8B-08A43E6A42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