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690587"/>
        <c:axId val="23005899"/>
      </c:barChart>
      <c:catAx>
        <c:axId val="686905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05899"/>
        <c:crosses val="autoZero"/>
        <c:auto val="1"/>
        <c:lblAlgn val="ctr"/>
        <c:lblOffset val="100"/>
        <c:noMultiLvlLbl val="0"/>
      </c:catAx>
      <c:valAx>
        <c:axId val="230058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905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973D-B815-498E-9924-8D0D47FA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91A1-A580-4B66-95F9-78C0F406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147D-B1AC-4584-BC17-72F636FE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8925-2C55-4AA0-875F-1AFF9663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44B1-DB7B-4EC5-9219-BF504F6A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77CE-0874-432D-AF43-3108A907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F835-54E5-4AFB-8C80-C6E5CEEE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FDE5-F9CF-45D8-BE4B-041C3148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B315-D98B-4D0A-A5B7-6ACBD062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8003-F0A1-418E-B5E4-C2736253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A3AB-5788-4C9E-B0FF-3707CFBE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9622-B5BB-48AE-94A0-99FAB245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352CA-FDE4-477B-B4ED-0C12788A4C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