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35929"/>
        <c:axId val="1022709"/>
      </c:barChart>
      <c:catAx>
        <c:axId val="31635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709"/>
        <c:crosses val="autoZero"/>
        <c:auto val="1"/>
        <c:lblAlgn val="ctr"/>
        <c:lblOffset val="100"/>
        <c:noMultiLvlLbl val="0"/>
      </c:catAx>
      <c:valAx>
        <c:axId val="1022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35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D70-F447-4CEF-AB78-30285367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882-95FD-40FF-ACCD-551BD992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17B-F731-41C7-899B-2B501F7C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516-A34C-43EB-8944-3471BDD2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A13-14FB-43E1-AFDB-C2EBE96C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CFC-0200-4F23-B43E-5588D734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D34-5F41-409E-9AFF-E2FF87F7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B7D-7DE7-45B2-A69B-2FB0583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926-BC81-4C46-B467-FB27E5D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74A-7621-4D85-9945-ADC33DB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EBA-7B90-4122-9B61-0AE5246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CBB-2FCB-4335-B5DA-70A7595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12EF1-28DC-43DB-8B82-467830B5E4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