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05312"/>
        <c:axId val="33728727"/>
      </c:barChart>
      <c:catAx>
        <c:axId val="59905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28727"/>
        <c:crosses val="autoZero"/>
        <c:auto val="1"/>
        <c:lblAlgn val="ctr"/>
        <c:lblOffset val="100"/>
        <c:noMultiLvlLbl val="0"/>
      </c:catAx>
      <c:valAx>
        <c:axId val="33728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5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FFE-8438-440A-9188-5DF49A0A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62E-C35E-4E11-877A-66A5C355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4F0-431F-4D3A-B41A-48BCF2BA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1C2-9E16-4A6D-A000-AE02E6A0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848-C8CB-4A95-A150-76C428E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440-527C-4BC9-AE54-F2D5211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07A-5BA3-47C5-A700-25C3985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E31-4CD2-4992-89A3-91E683D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EBF-856A-4C67-A2C8-F7747E4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0C7-3F20-4EAA-925E-79DE0F4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49D-7A73-4D2B-8937-5356C87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E7E-D6C9-47A2-8DD0-47676CE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FF727-F20A-4CE7-955D-D802642FE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