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756052"/>
        <c:axId val="93754921"/>
      </c:barChart>
      <c:catAx>
        <c:axId val="577560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54921"/>
        <c:crosses val="autoZero"/>
        <c:auto val="1"/>
        <c:lblAlgn val="ctr"/>
        <c:lblOffset val="100"/>
        <c:noMultiLvlLbl val="0"/>
      </c:catAx>
      <c:valAx>
        <c:axId val="937549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7560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C9E6-71C2-4B8D-A1D7-6118BE711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E28F-1EE0-4EB3-991E-1201C570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DE18-E6BF-40B2-8789-8E3D2626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D8D5-109D-42DD-9F8B-8EA3C1074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9019-F47B-429F-88DB-2C7E1927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C0F2-A346-454E-BCC4-55BCAEAF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1D28-1AFA-4277-9E8E-7138FBD3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E44A-C6DD-4A3C-8B2C-FF30A0D5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DE01-F9D8-4C64-8E10-FA6E59F2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ADB8-B82E-4CAA-869D-CF503D9D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5B59-DD04-4B90-84F3-4A8A799B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51AE-32DE-4A18-8651-6DE48430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9D8FD-3361-42D8-BE17-EAD98AF804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