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80506"/>
        <c:axId val="43532487"/>
      </c:barChart>
      <c:catAx>
        <c:axId val="48580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32487"/>
        <c:crosses val="autoZero"/>
        <c:auto val="1"/>
        <c:lblAlgn val="ctr"/>
        <c:lblOffset val="100"/>
        <c:noMultiLvlLbl val="0"/>
      </c:catAx>
      <c:valAx>
        <c:axId val="43532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80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CD4-999A-4B28-AD3E-78B7DC25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537-7A7D-4EEF-B2B1-7FD3E71B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C4A-0A55-4513-8FF1-2F849899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035-A508-48F3-BDF5-AD53FCA0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31C-4FB6-4FF4-B12D-4464221E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8CF-4A8C-41D6-98F3-B86C423C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CD8-883E-449D-883A-29580B78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E98-431E-40C9-87EC-AC3DB484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80A-AEC0-41AA-A67E-1C8EDCA2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A74-1BEC-484D-BD07-00C925A4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7EE-9E8E-4A03-BA27-67B68DA8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E50-3652-4046-AFAA-C5801FD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E699B-11DB-4A8C-9679-B6E67D7B3A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