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74986"/>
        <c:axId val="25541971"/>
      </c:barChart>
      <c:catAx>
        <c:axId val="71974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41971"/>
        <c:crosses val="autoZero"/>
        <c:auto val="1"/>
        <c:lblAlgn val="ctr"/>
        <c:lblOffset val="100"/>
        <c:noMultiLvlLbl val="0"/>
      </c:catAx>
      <c:valAx>
        <c:axId val="25541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74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F43-67D1-4079-A093-D5581AF6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DDB-3758-4515-BC77-F1377DBA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A07-658D-4D1B-9880-DB8B5C23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760-2B0E-45CB-8D0A-118AAE5E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752-38C7-4084-9672-70011678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0E5-804C-43A1-8254-7FB3650A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E13-EBB6-4063-8E9D-1191AE01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031-2182-46DD-8B1F-39DCA4EF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BC3-0D35-4B29-94B3-2135F3BD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DFC-F30D-4EA5-9F39-4B3948D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302-55CD-4AD6-B196-FBC97FDF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05D-5AE5-4A53-BEFB-C1C2442C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87943-65D7-4066-84CC-1B00132102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