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09908"/>
        <c:axId val="55620661"/>
      </c:barChart>
      <c:catAx>
        <c:axId val="56099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20661"/>
        <c:crosses val="autoZero"/>
        <c:auto val="1"/>
        <c:lblAlgn val="ctr"/>
        <c:lblOffset val="100"/>
        <c:noMultiLvlLbl val="0"/>
      </c:catAx>
      <c:valAx>
        <c:axId val="556206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99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DBC1-6714-42AA-B6BC-DBFA1060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354B-CA11-49BF-BEDE-1A966695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9E9B-EBD7-400B-8C18-B5C934367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FEB4-DABF-438D-84C4-8C5A05D0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5CE3-4190-4D1E-988B-982BA636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0AA0-7259-4D5F-999B-22F49940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87DA-13DC-4F96-86E1-EDA45181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B1CB-C48B-4D44-B836-55CB892A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FED7-B3CD-486A-A3B7-717C3442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7689-6594-409D-828C-CA3ABD82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4852-7C09-490E-B873-2E9F0B3D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E195-A73A-4035-8AB9-6E339137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2F425-713F-47C1-B1D0-506D4C68E1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