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44964"/>
        <c:axId val="4670501"/>
      </c:barChart>
      <c:catAx>
        <c:axId val="90144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0501"/>
        <c:crosses val="autoZero"/>
        <c:auto val="1"/>
        <c:lblAlgn val="ctr"/>
        <c:lblOffset val="100"/>
        <c:noMultiLvlLbl val="0"/>
      </c:catAx>
      <c:valAx>
        <c:axId val="4670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44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7EA-C767-4A0F-94E2-9BF962EF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DC0-B64A-4063-B5E1-5DBB35E6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75E-7231-4C37-BEBA-17DD9E15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F21-BD37-4BFC-AA05-7F0CCB80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60C-AA49-40EC-82ED-E108661B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205-18E6-4FCF-844D-7F741F55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059-D6C9-403F-85E1-30616FD9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1A8-8A92-4B39-BF85-242B7700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BE8-EBF1-4AB1-A8E7-35FD9244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17F-424A-481D-B7A7-E9EB1FA5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885-CCBC-494C-BB3A-DC6EC086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987-CED7-4B01-9B32-31CE8F3D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458D4-D333-4A19-B871-261B5ED92F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