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60753"/>
        <c:axId val="6475201"/>
      </c:barChart>
      <c:catAx>
        <c:axId val="38760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201"/>
        <c:crosses val="autoZero"/>
        <c:auto val="1"/>
        <c:lblAlgn val="ctr"/>
        <c:lblOffset val="100"/>
        <c:noMultiLvlLbl val="0"/>
      </c:catAx>
      <c:valAx>
        <c:axId val="6475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0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CDF-6B2E-41FC-9F81-17739897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383-5504-4B85-B47E-D14A8400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6E8-8D33-4DCD-85ED-58F081F4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3CD-7A37-4C58-B206-BF43C16F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184-292E-43C4-BAAC-8FE10E9E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EEF-98D0-4EA8-9DB8-5CAF754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828-9346-4A6C-BE38-F1E16B7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479-E0B9-47EC-9DA5-53E13C1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128-771D-4AD8-B19B-20841CDF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9F6-C7E1-4593-A460-AC3D2C0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789-D37F-42CD-A661-342631C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ED0-BD14-4D98-B841-832AB69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B5EA3-02A5-41D1-9A84-74CECA03F4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