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965822"/>
        <c:axId val="72171761"/>
      </c:barChart>
      <c:catAx>
        <c:axId val="489658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171761"/>
        <c:crosses val="autoZero"/>
        <c:auto val="1"/>
        <c:lblAlgn val="ctr"/>
        <c:lblOffset val="100"/>
        <c:noMultiLvlLbl val="0"/>
      </c:catAx>
      <c:valAx>
        <c:axId val="721717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9658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8422-5943-40EB-9CB5-8D260110B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8376-BB34-4776-978B-123625751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AF3B-44E4-4E2B-B332-839A97191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5F5F-3FF6-4867-AC28-8B91A6CD9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292E-6769-4294-A615-6F06886FC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A7F6-145B-4665-A0B0-395D5DD57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C59C-A2A2-4161-B489-63C89D518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A598-6369-4A77-A30E-C2876E160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43BE-A306-449D-8BA2-FCC183B7E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BF54-D1FB-4E19-BF43-23FC3864C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E82A-F2E2-467A-AAD1-7C8CF3201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824C-9C89-43A1-9B08-CEA6D5FBC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95DC3D-2588-482F-8BBB-B3A2EF219AA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