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856936"/>
        <c:axId val="17332711"/>
      </c:barChart>
      <c:catAx>
        <c:axId val="298569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32711"/>
        <c:crosses val="autoZero"/>
        <c:auto val="1"/>
        <c:lblAlgn val="ctr"/>
        <c:lblOffset val="100"/>
        <c:noMultiLvlLbl val="0"/>
      </c:catAx>
      <c:valAx>
        <c:axId val="173327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569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F308-3BC1-465D-A445-2EDED286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B1DD-ACEB-4E0E-A3E7-126AEAFF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2932-5D19-46BC-8EEE-BA3F0284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8E44-A7B0-4894-8E54-35BB980E0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DB7A-8544-4194-BD81-B802C9E9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2709-B6F6-4E3B-A7D7-1348F5AC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612D-33FF-480A-B783-E47449EB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8828-5FDE-4CCC-B7D1-1F4A8B31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1C1A-7EDE-4CB3-AC7D-9C886A9A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2DE9-ADE6-46E8-ABA9-9B6FDC75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52C8-C73E-4EDC-B8B8-85C0938E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84AB-ED48-45BB-B960-4C9BFE3D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3623E-D7AD-4E0D-A593-EFE0FEC649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