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97589"/>
        <c:axId val="19508160"/>
      </c:barChart>
      <c:catAx>
        <c:axId val="10797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08160"/>
        <c:crosses val="autoZero"/>
        <c:auto val="1"/>
        <c:lblAlgn val="ctr"/>
        <c:lblOffset val="100"/>
        <c:noMultiLvlLbl val="0"/>
      </c:catAx>
      <c:valAx>
        <c:axId val="19508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97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68B-31C2-4929-8C23-F813A6D1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32E-31AE-4859-ABDE-DE88BD6E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ECE-A2E3-4DC4-A7FA-E31E8443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28A-83D8-481E-AD1D-36AB5AC6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DF5-EC11-44DF-B066-0A9F9224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6AC6-F933-49FC-8FAB-A2F53B57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239-13A4-4208-85CE-1399D9EC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26A-9B0E-4EE4-AECA-83C5A360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322-8B83-4DD4-9665-A09F7582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B9A-C82C-4A96-9864-6D3263F7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99F-D19E-4861-A9F3-07AEC4ED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B7E-D43C-430D-8BEE-939E30F6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681CD-1C84-4D38-ABA0-0FFD945206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