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1140"/>
        <c:axId val="4799978"/>
      </c:barChart>
      <c:catAx>
        <c:axId val="73311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978"/>
        <c:crosses val="autoZero"/>
        <c:auto val="1"/>
        <c:lblAlgn val="ctr"/>
        <c:lblOffset val="100"/>
        <c:noMultiLvlLbl val="0"/>
      </c:catAx>
      <c:valAx>
        <c:axId val="4799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1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592-3A32-4490-BCAA-8A5EBCB2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CD-879A-4EAC-90C5-FD858E0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7D0-0A2F-47D3-A77D-D9BF591B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ECC-9BD1-44A5-A0F3-1341FA3B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1A2-4FAF-4899-BD62-50A76C2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8F9-8C07-45C0-8A34-63CC7030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ACE-694B-47A3-8E98-D821FB4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BE8-9B6E-4D36-B883-E0BC4B22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538-E9FB-4AC6-9295-5580767C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CFD-78EC-4286-A515-0C19A36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9A1-FDFF-49D3-A860-769326C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F49-21B3-4CEF-9A3C-4B38965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EFA8E-DF0E-4581-842D-B320CFBBF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