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04288"/>
        <c:axId val="80876067"/>
      </c:barChart>
      <c:catAx>
        <c:axId val="41804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76067"/>
        <c:crosses val="autoZero"/>
        <c:auto val="1"/>
        <c:lblAlgn val="ctr"/>
        <c:lblOffset val="100"/>
        <c:noMultiLvlLbl val="0"/>
      </c:catAx>
      <c:valAx>
        <c:axId val="80876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04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9A6-F5C1-4F9C-8618-9FCE270C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92E-5055-44F2-87A1-811FFB09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FD1-760C-439A-AAE2-7328C6BA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EC6-4504-433B-B89E-2131165C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3B3-06F2-483D-8DD4-06118F37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8E5-57C6-4C90-8213-D710405F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98F-11AD-45F3-B059-3BC8C199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4A4-51F8-427A-9718-4800E086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B43-0B4A-41A4-9F32-0FFC2237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525-4981-483C-A3D2-1A4A1EC8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2A3-D899-44ED-8B44-C7E13CD3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9F0-587E-4A97-940D-4288F921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C881A-8172-4D45-A3E9-C27B322BD8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