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81067"/>
        <c:axId val="73822992"/>
      </c:barChart>
      <c:catAx>
        <c:axId val="72081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2992"/>
        <c:crosses val="autoZero"/>
        <c:auto val="1"/>
        <c:lblAlgn val="ctr"/>
        <c:lblOffset val="100"/>
        <c:noMultiLvlLbl val="0"/>
      </c:catAx>
      <c:valAx>
        <c:axId val="73822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81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0CA-43BA-4A86-A872-A95AF200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B9D-7D94-42B7-A30E-CE54E21B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840-1B24-4073-A275-AF8DBACB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DE6-AA74-4543-9F53-6D63170D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7FD-29F7-42E5-960E-9D4EAE7C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04E-8198-45B1-A20A-1738DF6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F86-B982-4209-A0FE-E33A071B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BAD-C8AE-4BAF-9A11-31B1B53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004-DFDD-40E2-BCD9-DB7376B3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26D-B4B1-4AA2-9729-D61F6A8E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41E-7411-4C5B-AE8E-C1A54DF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5AF-5E1F-4678-9DD7-3D4CFE1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9ADB4-DB95-407F-AE47-E2D2AE21F4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