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15229"/>
        <c:axId val="17877999"/>
      </c:barChart>
      <c:catAx>
        <c:axId val="888152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77999"/>
        <c:crosses val="autoZero"/>
        <c:auto val="1"/>
        <c:lblAlgn val="ctr"/>
        <c:lblOffset val="100"/>
        <c:noMultiLvlLbl val="0"/>
      </c:catAx>
      <c:valAx>
        <c:axId val="178779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152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8B96-621A-49D3-9713-7EBFE349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45D0-D4D5-41A4-BDEE-9EAF5545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5BB6-C21B-43B5-AB5D-31265367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F072-9F21-40F9-9550-3D39F745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3C0-F341-41F0-8E8E-E088CC9C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D543-4767-4B78-871D-EDD8FB37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C816-ACAF-4990-8398-B1CBBF9F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AD55-1AEB-44D0-9372-3AA782E4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F7A5-F1F1-49B3-BB33-4EC5297C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6C21-49C3-4CB1-8B11-ABB6ECC3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7F44-3BDA-4592-A476-A09B5A2C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080-7CED-441E-B5A5-54CAF91A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4ACC1-1642-4A13-88C1-3F3B878A42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