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592000"/>
        <c:axId val="21586357"/>
      </c:barChart>
      <c:catAx>
        <c:axId val="245920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586357"/>
        <c:crosses val="autoZero"/>
        <c:auto val="1"/>
        <c:lblAlgn val="ctr"/>
        <c:lblOffset val="100"/>
        <c:noMultiLvlLbl val="0"/>
      </c:catAx>
      <c:valAx>
        <c:axId val="215863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5920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0321-7C52-48E2-A6FF-4F1D171CD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AF11-5537-4D65-B66A-9DB589CCE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2FF4-E80B-4810-A06A-6AD5E0A0B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C5CE-5F42-4DC9-8966-C3C03A8BC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3A95-31BD-4EA1-B94E-6C68B0831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84DD-429B-43D2-9545-6C2888A9E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B634-03B6-4AAB-B95C-9F1E41B56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1726-05EB-4A9E-A99C-934145A00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B6D7-6B95-4679-94B1-93A509D0F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A818-D55C-438B-AE9D-BCC6A300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EB75-97C0-4167-BE25-ADA8BD4C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3039-232F-4E9E-B1E4-459CEADC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EB118B-400C-474E-A4A9-9B1B5A62E2D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