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045424"/>
        <c:axId val="59344100"/>
      </c:barChart>
      <c:catAx>
        <c:axId val="320454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344100"/>
        <c:crosses val="autoZero"/>
        <c:auto val="1"/>
        <c:lblAlgn val="ctr"/>
        <c:lblOffset val="100"/>
        <c:noMultiLvlLbl val="0"/>
      </c:catAx>
      <c:valAx>
        <c:axId val="593441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0454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92F1-9118-4FD1-B046-B19228D73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294F-B315-4ABF-B434-F470D4DE4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EF89-5179-4B9D-8142-5D6E84118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089C-A062-4890-A708-9E36F6C5C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74B9-AAFD-4F0F-A27C-AD822A236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B85C-464D-4713-8EFB-6C90D363D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19D8-3E22-4375-9AD0-2EC5D974E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91FB-D263-4CAE-A986-DD6EA4669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0AA3-20AA-4B52-9F33-60C22EEDA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85E3-D8B3-4229-BDCB-ED3A86A2A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A596-11F0-47CC-8583-9473D68CD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BE9F-5702-4035-8CE7-EE15B72B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3BB827-1670-410D-A5EC-7B27772EEC2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