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62032"/>
        <c:axId val="81015086"/>
      </c:barChart>
      <c:catAx>
        <c:axId val="10262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15086"/>
        <c:crosses val="autoZero"/>
        <c:auto val="1"/>
        <c:lblAlgn val="ctr"/>
        <c:lblOffset val="100"/>
        <c:noMultiLvlLbl val="0"/>
      </c:catAx>
      <c:valAx>
        <c:axId val="81015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62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9F3-5A77-413D-BD55-248323B5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3C7-039A-4A56-8711-B7D1454B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68A-F080-40E5-B10F-8E4BE0D5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42C-8E97-46CF-9606-13B2194D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758-E103-4BFC-99DE-46EE22A5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E1C-98D5-403A-BA57-E2C53261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CF1-9E0E-44D4-BA84-9EB5B4F8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F37-D02B-4AC9-B415-2440B44F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055-FE9D-48F2-BB0A-9E9B6A3B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2B9-3C60-4CB6-8BD8-98D3239D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529-4920-4141-B071-6C2FCFC0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7A1-5C65-4ECD-896D-6779867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C409E-7BA7-4150-B20B-31C00E52FE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