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733121"/>
        <c:axId val="55139100"/>
      </c:barChart>
      <c:catAx>
        <c:axId val="427331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39100"/>
        <c:crosses val="autoZero"/>
        <c:auto val="1"/>
        <c:lblAlgn val="ctr"/>
        <c:lblOffset val="100"/>
        <c:noMultiLvlLbl val="0"/>
      </c:catAx>
      <c:valAx>
        <c:axId val="551391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331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50FA-4EE2-4E58-A98A-B75C9B54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1729-A7F4-4BE3-B97F-FAE5998B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55D8-25D3-4A13-8026-8CE32384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C8FA-C190-44B5-90F4-396D3653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AB5F-D7A1-4CC5-9558-0C48E49F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5F4B-1646-4F41-8188-55C26044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42DD-7F90-43FA-9371-D3B3010A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01AF-0ED5-4C8C-850E-F649783F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C7A9-EF30-42CC-A145-CF9BEBB1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1EFC-62EA-4970-B21B-BB3F0463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1AA5-35E5-4830-90A9-54CDBC81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FF1F-747B-475E-8082-D3685D50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38E52-A95C-4E2B-9484-EC2FDF093F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