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55080"/>
        <c:axId val="83101874"/>
      </c:barChart>
      <c:catAx>
        <c:axId val="21755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01874"/>
        <c:crosses val="autoZero"/>
        <c:auto val="1"/>
        <c:lblAlgn val="ctr"/>
        <c:lblOffset val="100"/>
        <c:noMultiLvlLbl val="0"/>
      </c:catAx>
      <c:valAx>
        <c:axId val="83101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55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945-3BAE-4079-B4EF-C86F6E9C8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0BB7-40E1-4EC7-8069-D3F2E2B6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53D3-4A2A-4C13-92AD-707CEFF3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93D-F036-4A79-9C51-8B716DDE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2B8-28C0-43E3-966C-7A2DC686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45B-BDBD-4714-AF89-5527D125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8D2D-179F-4382-AAC7-8651149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F2B-55A0-4D6D-8793-9EDEA41E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680-09FA-407B-BAAF-D642C774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59F3-CF8E-4347-B4D3-CF4B4336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719-31A3-4B37-BC93-B52FE28A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F00A-910C-4288-B516-2016F536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01B4D-7C49-4E2E-A9D7-8C07263E09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